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12193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77820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356760" y="1240920"/>
            <a:ext cx="5954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C5EB-3C90-43F5-AC60-BF5247169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360" y="477792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77820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171C-2131-486C-9F5F-B473FEBB1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0" y="9429840"/>
            <a:ext cx="2889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FE5-5B9E-4AA0-8CE3-C35B20DF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44B-AB4F-4BD4-B7F6-7DBE4861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DBD-4869-4A25-A6EB-09DBF50D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931-E7BB-4CCD-80BC-7D4959F1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5398-A149-4DB0-8FF1-BBD61CB4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2DE6-ED95-4F82-A187-81BD9E2D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4573-8391-4783-8256-C27A1B14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4D38-5B1A-470F-83F5-4D85CA5C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224E-2C82-4B12-87B5-EEBB3B22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3EC9-DC42-4C8B-8052-F05AE73A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478C-13D5-400A-A4F7-B9517007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55C-3F19-4826-B78B-62D60891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3849-F6F4-4457-B5C9-636DB5A5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69D8-11EB-4D88-821E-042CB4D6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3D6E-FF02-48B1-9585-B412B354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3CC5-3DF3-4559-857A-52EE2C28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951A-EB8B-492F-A9C1-68DC07F3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AB0A-45E3-4F82-8642-3D2830B4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27C6-55A8-4CDA-A2F3-244C2FA0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B1C6-EF79-4D58-81D1-BF6574EB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CDD54-0016-4DE3-AAF7-90BCDDA5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71DC-9F43-467A-B944-E01E6E03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317-1D79-46AF-87F9-36CCB210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0196-E493-4ADB-9CB5-77DA0263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F7ECE-B36E-4E64-B88E-93FD6650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E0AF-CE29-4ABD-8F8B-D9D75B13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46889-EEE5-4B3A-8804-036DE866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43DB2-DCA8-4230-B2F5-578447E9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BCBF-13B2-4601-B5C5-2B9A8A62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A333-D9BA-4F4E-86E8-1C8C1C21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73D-5A1D-4EDA-9A34-70E69C0A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E01-7D7D-4B82-B732-1630E2C5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E23-6236-4204-A6E9-FD68D548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AAB-3876-4CBD-9853-E6244DB3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FDE-7BF1-41A5-B0E0-12D4A836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4A0-DB81-4E51-9D54-74A16CF3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D840-41D9-4292-A911-CBE253EFE3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45A9-2337-45A8-A253-7A47AC4D1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5C6C-8273-4625-8CFD-4DBEE45195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E44B-D993-4E74-9D3E-2349703AE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2574-D791-42AC-915A-BECBB88537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AA35-087C-498D-B9C6-4111401E0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60520" y="2087640"/>
            <a:ext cx="770904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 Diabetes In Pregnan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DISCUSSION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6544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graphicFrame>
        <p:nvGraphicFramePr>
          <p:cNvPr id="134" name=""/>
          <p:cNvGraphicFramePr/>
          <p:nvPr/>
        </p:nvGraphicFramePr>
        <p:xfrm>
          <a:off x="3367080" y="4068720"/>
          <a:ext cx="4064040" cy="2500200"/>
        </p:xfrm>
        <a:graphic>
          <a:graphicData uri="http://schemas.openxmlformats.org/drawingml/2006/table">
            <a:tbl>
              <a:tblPr/>
              <a:tblGrid>
                <a:gridCol w="4064040"/>
              </a:tblGrid>
              <a:tr h="112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. Nurain Mohd. No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ultant Endocrinologi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pital Putraja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. Nazatul Syima Idrus</a:t>
                      </a:r>
                      <a:br>
                        <a:rPr sz="18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rmacist &amp; Principal Assistant Director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rmaceutical Services Di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stry of Health Malays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65160" y="1806480"/>
          <a:ext cx="12061800" cy="62568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625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glucose targ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227160" y="2452680"/>
            <a:ext cx="11737800" cy="2127240"/>
          </a:xfrm>
          <a:prstGeom prst="rect">
            <a:avLst/>
          </a:prstGeom>
          <a:ln w="0">
            <a:noFill/>
          </a:ln>
        </p:spPr>
      </p:pic>
      <p:sp>
        <p:nvSpPr>
          <p:cNvPr id="171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BD4C-F622-442A-8851-7057D2B98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next ste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metform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 diet and lifestyle modification for another 2 week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asal insulin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prandial insul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k patient to monitor post prandial blood glucose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75" name="Rounded Rectangle 3"/>
          <p:cNvSpPr/>
          <p:nvPr/>
        </p:nvSpPr>
        <p:spPr>
          <a:xfrm>
            <a:off x="208080" y="3692520"/>
            <a:ext cx="5073480" cy="828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3C2F-1CEC-4EB9-9B43-EACED72C6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282600" y="1184400"/>
            <a:ext cx="112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the initial do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5160" y="3732120"/>
          <a:ext cx="12061800" cy="86220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862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2"/>
          <p:cNvSpPr/>
          <p:nvPr/>
        </p:nvSpPr>
        <p:spPr>
          <a:xfrm>
            <a:off x="282600" y="4816440"/>
            <a:ext cx="1142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with 0.2u/k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ed on insulatard 14u 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6600" y="63360"/>
          <a:ext cx="12061800" cy="86220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862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3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5E1C-5D7A-4879-9AE5-EC2658879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-38160" y="1555920"/>
            <a:ext cx="12230280" cy="33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63360" y="914400"/>
          <a:ext cx="12060360" cy="64152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64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lin initi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B00D-5110-4E45-9E14-51F9F661E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282600" y="1050840"/>
            <a:ext cx="11225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often does she need to perform SMB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he feels un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meal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bed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heavy m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 and post-me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4280" y="4176720"/>
          <a:ext cx="12147840" cy="861840"/>
        </p:xfrm>
        <a:graphic>
          <a:graphicData uri="http://schemas.openxmlformats.org/drawingml/2006/table">
            <a:tbl>
              <a:tblPr/>
              <a:tblGrid>
                <a:gridCol w="12147840"/>
              </a:tblGrid>
              <a:tr h="861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5160" y="33480"/>
          <a:ext cx="12061800" cy="86184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861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"/>
          <p:cNvSpPr/>
          <p:nvPr/>
        </p:nvSpPr>
        <p:spPr>
          <a:xfrm>
            <a:off x="3369600" y="5416560"/>
            <a:ext cx="537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re- and post-me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517D-1A12-475D-A0C4-7D354C0BE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95" name="Footer Placeholder 5"/>
          <p:cNvSpPr/>
          <p:nvPr/>
        </p:nvSpPr>
        <p:spPr>
          <a:xfrm>
            <a:off x="4038480" y="649764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rcRect l="18629" t="41053" r="17373" b="26019"/>
          <a:stretch/>
        </p:blipFill>
        <p:spPr>
          <a:xfrm>
            <a:off x="228600" y="1716120"/>
            <a:ext cx="11779200" cy="340848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0E1D-ACDD-4DDA-8EB2-7EF3A08CB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nderstand how to initiate appropriate management of diabetes in pregnanc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per monitoring blood glucose is important for treatment deci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nderstand how to initiate insulin treatment according to the blood glucose leve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Arial"/>
                <a:ea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 messag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01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C97B-1E97-4210-8115-85AA03127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CASE 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E6BA-7E96-4434-9379-61F6E1E7E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5 year old lady, G4 P3 at 12 weeks ges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/o GDM in the last pregnanc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nly on diet treat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by’s weight 4 k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es to clinic for book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andom blood glucose:12 mmol/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r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07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7A58-96DE-4F29-BF01-9A85349C1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7640" y="579600"/>
          <a:ext cx="12160080" cy="1828800"/>
        </p:xfrm>
        <a:graphic>
          <a:graphicData uri="http://schemas.openxmlformats.org/drawingml/2006/table">
            <a:tbl>
              <a:tblPr/>
              <a:tblGrid>
                <a:gridCol w="6080040"/>
                <a:gridCol w="608004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71680" indent="-398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6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kg/m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1680" y="3444840"/>
          <a:ext cx="12160440" cy="914400"/>
        </p:xfrm>
        <a:graphic>
          <a:graphicData uri="http://schemas.openxmlformats.org/drawingml/2006/table">
            <a:tbl>
              <a:tblPr/>
              <a:tblGrid>
                <a:gridCol w="6080040"/>
                <a:gridCol w="608040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t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marL="438120" indent="-342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 mmol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8564-D214-437C-95C8-74DDEA762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CASE 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8EFB-2667-4431-A4CE-09A1B84D0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you manage this pati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e back with OGT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insulin immediatel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formin should be start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 to the ophthalmologist for eye assessmen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ss renal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15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92C6-80B9-4A8B-8607-2A07BB102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agnosed in the presence of any one or more of these result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1092240" indent="-571680" algn="just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FPG ≥7.0 mmol/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1092240" indent="-5716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2-HPP ≥11.1 mmol/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1092240" indent="-5716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PG ≥11.1 mmol/L with symptom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t diabet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20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7D53-AF02-4E61-9101-B38CAE5DF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Screening for gestational diabetes mellitus based on risk factors using 75 gram oral glucose tolerance test (OGTT) should be done at boo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If the test is negative, it should be repeated at 24-28 weeks of ges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For women at the age of 25 or more with no other risk factors, OGTT should be done at 24-28 weeks of ges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vert diabetes in pregnancy should be managed as pre-existing diabe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 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24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593E-9E8D-4C73-94B8-2E6F907EC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ow do you manage this patient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me back with OGT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art insulin immediatel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etformin should be starte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nt to the ophthalmologist for eye assessmen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ssess renal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28" name="Rounded Rectangle 2"/>
          <p:cNvSpPr/>
          <p:nvPr/>
        </p:nvSpPr>
        <p:spPr>
          <a:xfrm>
            <a:off x="233280" y="2679840"/>
            <a:ext cx="6440400" cy="828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ounded Rectangle 5"/>
          <p:cNvSpPr/>
          <p:nvPr/>
        </p:nvSpPr>
        <p:spPr>
          <a:xfrm>
            <a:off x="233280" y="4105440"/>
            <a:ext cx="11633400" cy="1849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8153280" y="2862360"/>
            <a:ext cx="34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nsw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ED0E-4D23-4296-B548-40221BAAC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4203360"/>
            <a:ext cx="12160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type of insulin to start and how to start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2687760"/>
          <a:ext cx="12192120" cy="106200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35" name="Rectangle 2"/>
          <p:cNvSpPr/>
          <p:nvPr/>
        </p:nvSpPr>
        <p:spPr>
          <a:xfrm>
            <a:off x="0" y="1111320"/>
            <a:ext cx="12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2200" indent="-528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Insulin therapy initiated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172D-DFAE-432E-8129-BC791CCDF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6240" y="684360"/>
            <a:ext cx="120618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ulin ini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ulin requ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87200" y="1025640"/>
            <a:ext cx="11862000" cy="3246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423720" y="4524480"/>
            <a:ext cx="11588760" cy="21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66600" y="63360"/>
          <a:ext cx="12061800" cy="58284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582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42" name="Rounded Rectangle 6"/>
          <p:cNvSpPr/>
          <p:nvPr/>
        </p:nvSpPr>
        <p:spPr>
          <a:xfrm>
            <a:off x="66600" y="1701720"/>
            <a:ext cx="11982600" cy="828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ed Rectangle 7"/>
          <p:cNvSpPr/>
          <p:nvPr/>
        </p:nvSpPr>
        <p:spPr>
          <a:xfrm>
            <a:off x="0" y="5068800"/>
            <a:ext cx="12128400" cy="554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24CA-0480-49C9-B8E6-57D79AF18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90160" y="274320"/>
            <a:ext cx="11611080" cy="8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tarted on insulatard 12 u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Arial"/>
                <a:ea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7640" y="961920"/>
          <a:ext cx="12191760" cy="1981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  <a:gridCol w="3048120"/>
                <a:gridCol w="304776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 breakfast  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 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 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 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D084-E161-4718-B6C6-3C4498F21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the next step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Increase insulatar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Ask patient not to eat too much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Add bolus human insul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Add bolus rapid insulin analogu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52" name="Rounded Rectangle 2"/>
          <p:cNvSpPr/>
          <p:nvPr/>
        </p:nvSpPr>
        <p:spPr>
          <a:xfrm>
            <a:off x="233280" y="3411360"/>
            <a:ext cx="8594640" cy="828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9074160" y="350352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Answer 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B188-A340-443A-90BC-A7D0BF1B0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6240" y="684360"/>
            <a:ext cx="120618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ulin ini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ulin requ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87200" y="1025640"/>
            <a:ext cx="11862000" cy="3246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423720" y="4524480"/>
            <a:ext cx="11588760" cy="21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66600" y="63360"/>
          <a:ext cx="12061800" cy="58284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582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60" name="Rounded Rectangle 6"/>
          <p:cNvSpPr/>
          <p:nvPr/>
        </p:nvSpPr>
        <p:spPr>
          <a:xfrm>
            <a:off x="73080" y="2530440"/>
            <a:ext cx="11982240" cy="1592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85F4-3978-4AC0-BFE3-069284835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90160" y="274320"/>
            <a:ext cx="11611080" cy="8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n SC actrapid 8 unit TDS, insulatard 16 unit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Arial"/>
                <a:ea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5160" y="3352680"/>
          <a:ext cx="12061800" cy="73188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73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hours post-meal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7640" y="961920"/>
          <a:ext cx="12191760" cy="1981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  <a:gridCol w="3048120"/>
                <a:gridCol w="304776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breakfast  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749600" y="4191120"/>
          <a:ext cx="9144000" cy="1401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  <a:gridCol w="304812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st-breakfast  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st-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st-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C45E-C2FC-40B5-A9AB-81AE37D9F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5 year old lady, G1 P0 at 16 weeks ges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 medical illnes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GTT done due to risk factor - mother has T2D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149480" indent="-52884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OGTT result: 6.0/7.8 mmol/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r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0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546E-50B0-4C6D-B78B-8CCEE1A24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the next step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Increase insulatar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Ask patient not to eat too much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Add bolus human insul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3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Switch to bolus rapid insulin analogu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71" name="Rounded Rectangle 2"/>
          <p:cNvSpPr/>
          <p:nvPr/>
        </p:nvSpPr>
        <p:spPr>
          <a:xfrm>
            <a:off x="233280" y="4240080"/>
            <a:ext cx="9809280" cy="828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7753320" y="351144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Answer 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7B2C-CC2F-4B35-9328-ECDE37FB8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Both rapid- and long-acting (basal) are as efficacious as human insul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ssociated with fewer incidences of hypoglyc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Long-acting analogues have benefit in diabetic pregnant women with repeated nocturnal hypoglyca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ll insulin are considered safe and have low risk in pregnancy except for insulin glulisine and glargine where they should be given only when potential benefit outweigh the potential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No evidence to support the use of glulisine in pregna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ulin Analogu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77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FBE4-BA5B-40A7-A379-D1A62904F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derstand the importance of diagnosing overt diabetes in pregnancy and its management as pre-existing diabet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derstand the appropriate method of initiating insulin for managing diabetes in pregnanc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derstand the use of insulin analogues in post prandial hyperglycaemia and hypoglycaemi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 messag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81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9FE3-FB1B-4B4D-A3EE-58E447334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CD04-E38F-408E-9CF2-66EC28F25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is the diagnos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0" y="3059280"/>
          <a:ext cx="12179160" cy="873000"/>
        </p:xfrm>
        <a:graphic>
          <a:graphicData uri="http://schemas.openxmlformats.org/drawingml/2006/table">
            <a:tbl>
              <a:tblPr/>
              <a:tblGrid>
                <a:gridCol w="12179160"/>
              </a:tblGrid>
              <a:tr h="873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2"/>
          <p:cNvSpPr/>
          <p:nvPr/>
        </p:nvSpPr>
        <p:spPr>
          <a:xfrm>
            <a:off x="19080" y="4635360"/>
            <a:ext cx="1219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stational diabetes mellit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79C8-48AF-4B87-B29B-054EEE814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7640" y="579600"/>
          <a:ext cx="12160080" cy="2323800"/>
        </p:xfrm>
        <a:graphic>
          <a:graphicData uri="http://schemas.openxmlformats.org/drawingml/2006/table">
            <a:tbl>
              <a:tblPr/>
              <a:tblGrid>
                <a:gridCol w="6080040"/>
                <a:gridCol w="608004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71680" indent="-398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7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4 kg/m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pres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/80 mmH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80" y="3444840"/>
          <a:ext cx="12160440" cy="974880"/>
        </p:xfrm>
        <a:graphic>
          <a:graphicData uri="http://schemas.openxmlformats.org/drawingml/2006/table">
            <a:tbl>
              <a:tblPr/>
              <a:tblGrid>
                <a:gridCol w="6080040"/>
                <a:gridCol w="608040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l blood t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marL="552600" indent="-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T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/7.8 mmol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0523-75B8-46DD-91C5-9723D8512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should you treat this pati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insul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metform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t and lifestyle mod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metformin and insul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need treatment, repeat OGT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4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F502-84E2-4B1B-A4FC-03A362503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268200" y="1352520"/>
            <a:ext cx="115887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 gestational diabetes mellitus, 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metformin should be offered when blood glucose targets are not met by modification in diet and exercise within 1–2 week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716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t should be prescribed after consultation with specialist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formin should be continued in women who are already on the treatment before pregnancy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 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9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8B6B-7CE7-4085-9AC5-18B4B6F20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should you treat this pati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insul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metform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t and lifestyle mod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metformin and insul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need treatment, repeat OGT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080" y="25560"/>
          <a:ext cx="12160080" cy="1062000"/>
        </p:xfrm>
        <a:graphic>
          <a:graphicData uri="http://schemas.openxmlformats.org/drawingml/2006/table">
            <a:tbl>
              <a:tblPr/>
              <a:tblGrid>
                <a:gridCol w="1216008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62" name="Rounded Rectangle 3"/>
          <p:cNvSpPr/>
          <p:nvPr/>
        </p:nvSpPr>
        <p:spPr>
          <a:xfrm>
            <a:off x="201600" y="2652840"/>
            <a:ext cx="4495680" cy="828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FFE8-F365-44D2-8AAA-831EEB420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103320" y="1295280"/>
            <a:ext cx="120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e performs SMBG at hom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Arial"/>
                <a:ea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2448000"/>
          <a:ext cx="12192120" cy="1220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57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breakfas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lunc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dinn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-b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13680">
                      <a:solidFill>
                        <a:srgbClr val="7030a0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64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mmol/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mmol/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 mmol/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 mmol/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3680">
                      <a:solidFill>
                        <a:srgbClr val="7030a0"/>
                      </a:solidFill>
                    </a:lnL>
                    <a:lnR w="1368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136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3FF1-C431-4926-BE1C-9F3341AA4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6:11:03Z</dcterms:created>
  <dc:creator>Norasyikin A Wahab</dc:creator>
  <dc:description/>
  <dc:language>en-US</dc:language>
  <cp:lastModifiedBy>Ainol</cp:lastModifiedBy>
  <cp:lastPrinted>2018-07-04T01:20:51Z</cp:lastPrinted>
  <dcterms:modified xsi:type="dcterms:W3CDTF">2018-07-19T06:25:16Z</dcterms:modified>
  <cp:revision>160</cp:revision>
  <dc:subject/>
  <dc:title>Case study</dc:title>
</cp:coreProperties>
</file>